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7A0C-25DE-4991-AAE5-D8F92FFF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0953-F27E-49D8-B514-B526119B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E79D-3EE5-40B9-B06D-4EB98717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C4EA-C4D0-4DCF-AA45-20327A4B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936A-49F2-471C-86DA-F5990423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5BE8-9EA8-4706-88D5-BE1F1E4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B12D-A095-483C-9255-159DE6CF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876A-330E-48FE-9949-5E42EA30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8C34-BAF7-4673-96DB-4B48963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9DF9-EDC2-49AC-845E-3024611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80EB-A33F-41A5-A938-6F64BB3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B802-0B45-40DD-AF2A-1369F44C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5558-09B5-4C1B-8532-0CC1BD0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F34D-E9B3-48BE-BEC9-1EA06D7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BCB5-375B-4321-BD65-9D73DAAE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EFE4-4891-4D76-973F-4C5B6E47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F6FA-520A-4D30-AFD0-86378409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55FA-CBBD-41A8-B1D9-96EF5DDE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3864-9FD0-4E34-92E1-214204D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77C9-BD75-498D-9B9C-C5311CAD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B7AB-436A-4ECC-9300-03E53F7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4C4B-058A-4283-9156-4F21D6E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8A3F-DFA3-4E86-8838-C80A1199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69F8-320E-4F54-BF90-4C98A2B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8C9-5B88-45EA-B37B-010F81A122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134-CCA1-40B0-9109-E256664B88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8.xml"/><Relationship Id="rId14" Type="http://schemas.openxmlformats.org/officeDocument/2006/relationships/slide" Target="slide29.xml"/><Relationship Id="rId15" Type="http://schemas.openxmlformats.org/officeDocument/2006/relationships/slide" Target="slide30.xml"/><Relationship Id="rId16" Type="http://schemas.openxmlformats.org/officeDocument/2006/relationships/slide" Target="slide31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40.xml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m_043"/>
          <p:cNvPicPr/>
          <p:nvPr/>
        </p:nvPicPr>
        <p:blipFill>
          <a:blip r:embed="rId1"/>
          <a:stretch/>
        </p:blipFill>
        <p:spPr>
          <a:xfrm>
            <a:off x="6012000" y="476280"/>
            <a:ext cx="2857320" cy="3181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857680"/>
            <a:ext cx="6516720" cy="100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3aa91"/>
                </a:solidFill>
                <a:latin typeface="Arial"/>
              </a:rPr>
              <a:t>3 раунд игры «Самый умный химик»,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-252360" y="4266720"/>
            <a:ext cx="964872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освященной 150 – лети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периодической таблицы химических элементо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Д.И. Менделее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Ответ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они проводили параллель только между сходными элементами, даже не сравнивая явно несходные, такие, например, как натрий и хл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684360" y="5084640"/>
            <a:ext cx="158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cccc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Na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cccc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6804000" y="1197000"/>
            <a:ext cx="15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AutoShape 10">
            <a:hlinkClick r:id="rId1" action="ppaction://hlinksldjump"/>
          </p:cNvPr>
          <p:cNvSpPr/>
          <p:nvPr/>
        </p:nvSpPr>
        <p:spPr>
          <a:xfrm rot="10800000">
            <a:off x="7956360" y="6453360"/>
            <a:ext cx="865080" cy="28872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1800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89647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 времени открытия Периодического закона было известно 63 химических элемен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1979640" y="436572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4427640" y="1557360"/>
            <a:ext cx="10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3aa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e</a:t>
            </a:r>
            <a:endParaRPr b="1" lang="en-US" sz="1800" spc="1" strike="noStrike">
              <a:ln w="0">
                <a:noFill/>
              </a:ln>
              <a:solidFill>
                <a:srgbClr val="e3aa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3203640" y="4869000"/>
            <a:ext cx="93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i</a:t>
            </a:r>
            <a:endParaRPr b="1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580000" y="5445000"/>
            <a:ext cx="100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6e3da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</a:t>
            </a:r>
            <a:endParaRPr b="1" lang="en-US" sz="1800" spc="1" strike="noStrike">
              <a:ln w="0">
                <a:noFill/>
              </a:ln>
              <a:solidFill>
                <a:srgbClr val="f6e3da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8"/>
          <p:cNvSpPr txBox="1"/>
          <p:nvPr/>
        </p:nvSpPr>
        <p:spPr>
          <a:xfrm>
            <a:off x="8028000" y="40464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WordArt 9"/>
          <p:cNvSpPr txBox="1"/>
          <p:nvPr/>
        </p:nvSpPr>
        <p:spPr>
          <a:xfrm>
            <a:off x="395280" y="5445000"/>
            <a:ext cx="86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5f5f5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5f5f5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5580000" y="4005360"/>
            <a:ext cx="79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50920" y="2205000"/>
            <a:ext cx="115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g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6299280" y="1557360"/>
            <a:ext cx="9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e</a:t>
            </a:r>
            <a:endParaRPr b="1" lang="en-US" sz="1800" spc="1" strike="noStrike">
              <a:ln w="0">
                <a:noFill/>
              </a:ln>
              <a:solidFill>
                <a:srgbClr val="ffcc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13"/>
          <p:cNvSpPr txBox="1"/>
          <p:nvPr/>
        </p:nvSpPr>
        <p:spPr>
          <a:xfrm>
            <a:off x="7812000" y="378936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u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AutoShape 1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4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4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4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 вытекает из названия первого варианта системы Д.И. Менделеева «Опыт системы элементов, основанной на атомном весе и химическом сходств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чь идет о скандии, галлии, герман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539640" y="3141720"/>
            <a:ext cx="1656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3132000" y="4365720"/>
            <a:ext cx="194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6659640" y="3068640"/>
            <a:ext cx="17794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AutoShape 11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4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71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20360"/>
            <a:ext cx="9144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3424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ых, которые своими работами подтверждали справедливость периодического закона. Это прежде всего П. Лекок де Буабодран, Л. Нильсон,             К. Винклер. Они открыли предсказанные Д.И. Менделеевым галлий, скандий, герм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468360" y="404640"/>
            <a:ext cx="136692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3419640" y="5516640"/>
            <a:ext cx="1079280" cy="10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cccc">
                    <a:alpha val="50000"/>
                  </a:srgbClr>
                </a:solidFill>
                <a:effectLst>
                  <a:outerShdw dist="107932" dir="135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Ga</a:t>
            </a:r>
            <a:endParaRPr b="0" lang="en-US" sz="1800" spc="1" strike="noStrike">
              <a:ln w="12600">
                <a:solidFill>
                  <a:srgbClr val="ffcc99"/>
                </a:solidFill>
                <a:miter/>
              </a:ln>
              <a:solidFill>
                <a:srgbClr val="ffcccc">
                  <a:alpha val="50000"/>
                </a:srgbClr>
              </a:solidFill>
              <a:effectLst>
                <a:outerShdw dist="107932" dir="135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3995640" y="692280"/>
            <a:ext cx="12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cc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G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cc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4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4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17431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толбцы таблицы попали элементы, далекие по свойствам от тех, которые расположены над ними: хром, титан, марганец и железо. В таблице Ньюлендса не было мест для размещения еще не открытых элементов, отсутствовало деление элементов на группы и периоды, поэтому непонятен физический смысл рядов и столб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91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вания каких химических элементов происходят от названий частей све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6288120" y="404640"/>
            <a:ext cx="2855880" cy="28450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43588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из химических элементов сначала был найден астрономами, а уже позже его открытие подтвердили химик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rcRect l="25505" t="28635" r="18429" b="17022"/>
          <a:stretch/>
        </p:blipFill>
        <p:spPr>
          <a:xfrm>
            <a:off x="6588000" y="476280"/>
            <a:ext cx="2232000" cy="192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7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3616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-шут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сли к названию элемента прибавить одну букву, то получится синоним слова «метель». О каком элементе идет реч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3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997360"/>
            <a:ext cx="842508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лемент, название которого в переводе с латинского – «утренняя зар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3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сканирование0001"/>
          <p:cNvPicPr/>
          <p:nvPr/>
        </p:nvPicPr>
        <p:blipFill>
          <a:blip r:embed="rId1"/>
          <a:stretch/>
        </p:blipFill>
        <p:spPr>
          <a:xfrm rot="826200">
            <a:off x="6659640" y="259920"/>
            <a:ext cx="3216240" cy="223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857160"/>
            <a:ext cx="8496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«Другого ничего в природе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Ни здесь, ни там, в космических глубин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се – от песчинок малых до планет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Из элементов состоит еди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Как формула, как график труд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Строй менделеевской системы стр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округ тебя творится мир жи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99"/>
                </a:solidFill>
                <a:latin typeface="Bookman Old Style"/>
              </a:rPr>
              <a:t>Входи в него, вдыхай, руками трогай</a:t>
            </a: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Bookman Old Style"/>
              </a:rPr>
              <a:t>С.Щипач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и металла имеют магнитные свойства. Назовите порядковые номера химических элементов, из атомов которых эти металлы состоя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3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21034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«Алхимическом словаре» Руланда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(1612)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этот элемент отнесен к металлам и назван «легчайшим, бледнейшим и дешевейшим свинцом». В России его называли то «нимфой», то «глаурой», то «демогоргоном». Происхождение современного названия элемента тоже покрыто тайной. Одни считают, что оно происходит от арабских слов «би исмид» — похожий на сурьму. Другие предполагают, что название элемента древнегерманского происхождения и означает «белый металл». Атомы элемента имеют электронную конфигурацию [Хе]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ru-RU" sz="2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 Что это за элемент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74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мент №63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европ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зван в честь Европы, элемент №95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америци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в честь Аме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324000" y="4508640"/>
            <a:ext cx="129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Eu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>
            <a:off x="6659640" y="836640"/>
            <a:ext cx="1655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Am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5" name="AutoShape 7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элемент №2 – гелий (от греческого «гелиос» - солнце), открытый астрономами Ж. Жансеном и Н. Локьером, а также химиками У. Рамзаем и П. Кле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6732720" y="907920"/>
            <a:ext cx="18716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9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18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 элементе № 92 – уране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e3aa91"/>
                </a:solidFill>
                <a:latin typeface="Arial"/>
              </a:rPr>
              <a:t>(уран – буран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2195640" y="4149720"/>
            <a:ext cx="158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ecff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U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ecff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600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63280" y="2707920"/>
            <a:ext cx="692316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лемент № 79 – золот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2916360" y="3500280"/>
            <a:ext cx="29509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3fca2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Au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3fca2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1981080"/>
            <a:ext cx="6697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6, 27, 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Железо, кобальт, никель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900000" y="4221000"/>
            <a:ext cx="223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F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6"/>
          <p:cNvSpPr txBox="1"/>
          <p:nvPr/>
        </p:nvSpPr>
        <p:spPr>
          <a:xfrm>
            <a:off x="4859280" y="4797360"/>
            <a:ext cx="18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0c0c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Co</a:t>
            </a:r>
            <a:endParaRPr b="1" lang="en-US" sz="1800" spc="1" strike="noStrike">
              <a:ln w="0">
                <a:noFill/>
              </a:ln>
              <a:solidFill>
                <a:srgbClr val="c0c0c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7451640" y="2997360"/>
            <a:ext cx="1513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AutoShape 8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4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4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520" y="620640"/>
            <a:ext cx="181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3640" y="2781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мент-путаник – это висмут, легкоплавкий диамагнитный металл красновато-белого цвета, последний по номеру элемент Периодической системы, не обладающий естественной радиоактивностью. Висмут в свободном виде впервые выделил в 1739 году немецкий химик Иоганн Генрих Пот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WordArt 4"/>
          <p:cNvSpPr txBox="1"/>
          <p:nvPr/>
        </p:nvSpPr>
        <p:spPr>
          <a:xfrm>
            <a:off x="5651640" y="981000"/>
            <a:ext cx="1728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aa91"/>
                  </a:solidFill>
                  <a:miter/>
                </a:ln>
                <a:solidFill>
                  <a:srgbClr val="ffcccc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Bi</a:t>
            </a:r>
            <a:endParaRPr b="0" lang="en-US" sz="1800" spc="1" strike="noStrike">
              <a:ln w="9360">
                <a:solidFill>
                  <a:srgbClr val="e3aa91"/>
                </a:solidFill>
                <a:miter/>
              </a:ln>
              <a:solidFill>
                <a:srgbClr val="ffcccc"/>
              </a:solidFill>
              <a:effectLst>
                <a:outerShdw dist="153753" dir="27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AutoShape 6">
            <a:hlinkClick r:id="rId1" action="ppaction://hlinksldjump"/>
          </p:cNvPr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3644640"/>
            <a:ext cx="88200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, в чём заключался научный подвиг  Д. И. Менделее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5" descr="Pm00040"/>
          <p:cNvPicPr/>
          <p:nvPr/>
        </p:nvPicPr>
        <p:blipFill>
          <a:blip r:embed="rId1"/>
          <a:stretch/>
        </p:blipFill>
        <p:spPr>
          <a:xfrm>
            <a:off x="5867280" y="404640"/>
            <a:ext cx="3030480" cy="3095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3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6000"/>
                            </p:stCondLst>
                            <p:childTnLst>
                              <p:par>
                                <p:cTn id="6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2052720"/>
            <a:ext cx="84250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зовите пару химических элементов, расположенных в периодической таблице не в порядке возрастания, а в порядке уменьшения атомных мас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3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2565360"/>
          <a:ext cx="8785440" cy="3613320"/>
        </p:xfrm>
        <a:graphic>
          <a:graphicData uri="http://schemas.openxmlformats.org/drawingml/2006/table">
            <a:tbl>
              <a:tblPr/>
              <a:tblGrid>
                <a:gridCol w="4006800"/>
                <a:gridCol w="795600"/>
                <a:gridCol w="798480"/>
                <a:gridCol w="795240"/>
                <a:gridCol w="795240"/>
                <a:gridCol w="798480"/>
                <a:gridCol w="795600"/>
              </a:tblGrid>
              <a:tr h="8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Открытие периодического закон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Путешествие по периодической систем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ca2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c76ec"/>
                          </a:solidFill>
                          <a:latin typeface="Arial"/>
                        </a:rPr>
                        <a:t>Вклад Д.И.Менделеева в открытие периодического закона и периодическ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3399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57"/>
          <p:cNvSpPr/>
          <p:nvPr/>
        </p:nvSpPr>
        <p:spPr>
          <a:xfrm>
            <a:off x="1619280" y="476280"/>
            <a:ext cx="75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Периодическому закону будущее не грозит разрушением, а только надстройку и развитие обещает.</a:t>
            </a:r>
            <a:r>
              <a:rPr b="0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.И.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83">
            <a:hlinkClick r:id="rId19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3143160"/>
            <a:ext cx="845172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лементов предсказал и подробно описал  Д. И. Менделеев? Назовите эти химические элементы в современном и историческом сти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4500720" y="50004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SP_A0452"/>
          <p:cNvPicPr/>
          <p:nvPr/>
        </p:nvPicPr>
        <p:blipFill>
          <a:blip r:embed="rId1"/>
          <a:stretch/>
        </p:blipFill>
        <p:spPr>
          <a:xfrm>
            <a:off x="6200640" y="333360"/>
            <a:ext cx="2943360" cy="338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47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6760" y="2786040"/>
            <a:ext cx="671508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овите одного из ученых, кого Д. И. Менделеев называл «укрепителями периодического зако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1500120"/>
            <a:ext cx="85359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какую группу поместил Д. И. Менделеев инертные газы? До какого года она просуществовал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6" descr="C:\Users\Инна Юрьевна\Desktop\blagorodnye-gazy_1.jpg"/>
          <p:cNvPicPr/>
          <p:nvPr/>
        </p:nvPicPr>
        <p:blipFill>
          <a:blip r:embed="rId1"/>
          <a:stretch/>
        </p:blipFill>
        <p:spPr>
          <a:xfrm>
            <a:off x="928800" y="3500280"/>
            <a:ext cx="4024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2103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тому учёному Д.И.Менделеев предложил проверить удельный вес, открытого им химического элемента спектральным анализом и предсказанным великим учёным. Назовите химический элемент и учёного – спектроскопис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4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1743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35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ткрытии периодического зак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https://prezentacii.org/uploads/files/19/01/119639/data/pres/screen4.jpg"/>
          <p:cNvPicPr/>
          <p:nvPr/>
        </p:nvPicPr>
        <p:blipFill>
          <a:blip r:embed="rId1"/>
          <a:srcRect l="46876" t="27372" r="12841" b="12894"/>
          <a:stretch/>
        </p:blipFill>
        <p:spPr>
          <a:xfrm>
            <a:off x="4214880" y="714240"/>
            <a:ext cx="4560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3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6000" y="1643040"/>
            <a:ext cx="6742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8 - 19 (аргон-калий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7-28 (кобальт-никель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52-53 (теллур - йод)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90 - 91(торий - протакти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3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6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3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9000"/>
                            </p:stCondLst>
                            <p:childTnLst>
                              <p:par>
                                <p:cTn id="6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казал 12, подробно  описал 3 – экаалюминий (галлий), экабор (скандий), экасилиций (германи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https://misanec.ru/wp-content/uploads/2016/01/002.jpg"/>
          <p:cNvPicPr/>
          <p:nvPr/>
        </p:nvPicPr>
        <p:blipFill>
          <a:blip r:embed="rId1"/>
          <a:stretch/>
        </p:blipFill>
        <p:spPr>
          <a:xfrm>
            <a:off x="2928960" y="3303720"/>
            <a:ext cx="36432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3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6286680" y="3000240"/>
            <a:ext cx="1731960" cy="175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1815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2214720"/>
            <a:ext cx="8820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 Лекокк де Буабодра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 Винклер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.Ф. Нильсо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. Рамз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http://vashurok.ru/ckeditor_assets/pictures/1084/original_194088_or.jpg"/>
          <p:cNvPicPr/>
          <p:nvPr/>
        </p:nvPicPr>
        <p:blipFill>
          <a:blip r:embed="rId2"/>
          <a:stretch/>
        </p:blipFill>
        <p:spPr>
          <a:xfrm>
            <a:off x="4572000" y="142920"/>
            <a:ext cx="3610080" cy="2665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Users\Инна Юрьевна\Desktop\000030.jpg"/>
          <p:cNvPicPr/>
          <p:nvPr/>
        </p:nvPicPr>
        <p:blipFill>
          <a:blip r:embed="rId3"/>
          <a:stretch/>
        </p:blipFill>
        <p:spPr>
          <a:xfrm>
            <a:off x="2714760" y="2928960"/>
            <a:ext cx="2314440" cy="304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C:\Users\Инна Юрьевна\Desktop\lars_fredrik_nilson.png"/>
          <p:cNvPicPr/>
          <p:nvPr/>
        </p:nvPicPr>
        <p:blipFill>
          <a:blip r:embed="rId4"/>
          <a:stretch/>
        </p:blipFill>
        <p:spPr>
          <a:xfrm>
            <a:off x="5072040" y="2214720"/>
            <a:ext cx="3270240" cy="17143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C:\Users\Инна Юрьевна\Desktop\Mark-Richard-Milbanke-Sir-William-Ramsay-1852-1916-.jpg"/>
          <p:cNvPicPr/>
          <p:nvPr/>
        </p:nvPicPr>
        <p:blipFill>
          <a:blip r:embed="rId5"/>
          <a:stretch/>
        </p:blipFill>
        <p:spPr>
          <a:xfrm>
            <a:off x="5715000" y="3929040"/>
            <a:ext cx="20527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3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3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0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левая группа. Она просуществовала до 1962 го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C:\Users\Инна Юрьевна\Desktop\cea580a55dce70d8c90cabe208b9b4a1.jpg"/>
          <p:cNvPicPr/>
          <p:nvPr/>
        </p:nvPicPr>
        <p:blipFill>
          <a:blip r:embed="rId1"/>
          <a:stretch/>
        </p:blipFill>
        <p:spPr>
          <a:xfrm>
            <a:off x="1428840" y="2857680"/>
            <a:ext cx="48225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3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620640"/>
            <a:ext cx="1600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99"/>
                </a:solidFill>
                <a:latin typeface="Arial"/>
              </a:rPr>
              <a:t>Ответ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785960"/>
            <a:ext cx="417492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 галлий (экаалюминий). Учёный – Лекок де Буабод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 rot="10800000">
            <a:off x="7956360" y="638136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https://feanoturiblog.files.wordpress.com/2017/04/lecoq.jpg?w=700"/>
          <p:cNvPicPr/>
          <p:nvPr/>
        </p:nvPicPr>
        <p:blipFill>
          <a:blip r:embed="rId1"/>
          <a:srcRect l="13235" t="0" r="13976" b="0"/>
          <a:stretch/>
        </p:blipFill>
        <p:spPr>
          <a:xfrm>
            <a:off x="4429080" y="1214280"/>
            <a:ext cx="35481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3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о попыток классификации химических элементов до Д.И. Менделеева, считая варианты таблиц, достигало 50.  Некоторые из ученых (Л. Мейер, Д. Ньюлендс) очень близко подошли к открытию закона. И все же им не удалось довести свои попытки до завершения. Укажите основной недостаток в работах всех предшественников Д.И. Менделе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8" descr="Image270"/>
          <p:cNvPicPr/>
          <p:nvPr/>
        </p:nvPicPr>
        <p:blipFill>
          <a:blip r:embed="rId1"/>
          <a:stretch/>
        </p:blipFill>
        <p:spPr>
          <a:xfrm>
            <a:off x="6443640" y="476280"/>
            <a:ext cx="2448000" cy="13860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7"/>
          <p:cNvSpPr txBox="1"/>
          <p:nvPr/>
        </p:nvSpPr>
        <p:spPr>
          <a:xfrm>
            <a:off x="2340000" y="1628640"/>
            <a:ext cx="619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78" name="Group 8"/>
          <p:cNvGrpSpPr/>
          <p:nvPr/>
        </p:nvGrpSpPr>
        <p:grpSpPr>
          <a:xfrm>
            <a:off x="6659640" y="4095720"/>
            <a:ext cx="2286000" cy="2286000"/>
            <a:chOff x="6659640" y="4095720"/>
            <a:chExt cx="2286000" cy="2286000"/>
          </a:xfrm>
        </p:grpSpPr>
        <p:sp>
          <p:nvSpPr>
            <p:cNvPr id="279" name="Oval 9"/>
            <p:cNvSpPr/>
            <p:nvPr/>
          </p:nvSpPr>
          <p:spPr>
            <a:xfrm>
              <a:off x="6659640" y="4095720"/>
              <a:ext cx="2286000" cy="228600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0" name="Picture 10" descr="сканирование0019"/>
            <p:cNvPicPr/>
            <p:nvPr/>
          </p:nvPicPr>
          <p:blipFill>
            <a:blip r:embed="rId1"/>
            <a:stretch/>
          </p:blipFill>
          <p:spPr>
            <a:xfrm>
              <a:off x="7230960" y="5238720"/>
              <a:ext cx="1143000" cy="8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WordArt 11"/>
            <p:cNvSpPr txBox="1"/>
            <p:nvPr/>
          </p:nvSpPr>
          <p:spPr>
            <a:xfrm>
              <a:off x="6786360" y="4667040"/>
              <a:ext cx="2072160" cy="97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Monotype Corsiva"/>
                </a:rPr>
                <a:t>САМЫЙ УМНЫЙ ХИМИК</a:t>
              </a:r>
              <a:endParaRPr b="1" lang="en-US" sz="2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Monotype Corsiva"/>
                <a:ea typeface="Monotype Corsiva"/>
              </a:endParaRPr>
            </a:p>
          </p:txBody>
        </p:sp>
        <p:sp>
          <p:nvSpPr>
            <p:cNvPr id="282" name="WordArt 12"/>
            <p:cNvSpPr txBox="1"/>
            <p:nvPr/>
          </p:nvSpPr>
          <p:spPr>
            <a:xfrm>
              <a:off x="7345440" y="4324320"/>
              <a:ext cx="971640" cy="371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latin typeface="Monotype Corsiva"/>
                </a:rPr>
                <a:t>Знаток</a:t>
              </a:r>
              <a:endParaRPr b="1" lang="en-US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Monotype Corsiva"/>
                <a:ea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1958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химических элементов было известно ко времени открытия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95640" y="549360"/>
            <a:ext cx="20318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ложил в основу классификации химических элементов Д.И.Менделе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сканирование0001"/>
          <p:cNvPicPr/>
          <p:nvPr/>
        </p:nvPicPr>
        <p:blipFill>
          <a:blip r:embed="rId1"/>
          <a:srcRect l="0" t="0" r="0" b="16451"/>
          <a:stretch/>
        </p:blipFill>
        <p:spPr>
          <a:xfrm rot="1036200">
            <a:off x="6659640" y="836640"/>
            <a:ext cx="1827000" cy="2746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0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210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ердо убежденный в справедливости периодического закона Д.И.Менделеев предпринимает невиданный в истории химической науки шаг. Он описывает свойства трех из предсказанных им элементов, их соединений и даже методы, которыми эти химические элементы могут быть получены. О каких элементах идет реч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сканирование0002"/>
          <p:cNvPicPr/>
          <p:nvPr/>
        </p:nvPicPr>
        <p:blipFill>
          <a:blip r:embed="rId1">
            <a:lum bright="-24000"/>
          </a:blip>
          <a:srcRect l="25399" t="3625" r="13562" b="1519"/>
          <a:stretch/>
        </p:blipFill>
        <p:spPr>
          <a:xfrm rot="591000">
            <a:off x="6256440" y="601200"/>
            <a:ext cx="2255760" cy="15732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9">
            <a:hlinkClick r:id="rId2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188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4358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о Д.И.Менделеев называл «укрепителями» периодического зак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>
            <a:hlinkClick r:id="rId1" action="ppaction://hlinksldjump"/>
          </p:cNvPr>
          <p:cNvSpPr/>
          <p:nvPr/>
        </p:nvSpPr>
        <p:spPr>
          <a:xfrm>
            <a:off x="79567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2247840" cy="7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00"/>
                </a:solidFill>
                <a:latin typeface="Arial"/>
              </a:rPr>
              <a:t>Вопрос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химик Д. Ньюлэндс (1863 г.), располагая элементы последовательно в порядке возрастания их атомных масс, заметил, что восьмой по счету элемент повторяет свойство первого, подобно повторению звуков в музыкальной октаве, и назвал свою таблицу «законом октав»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9">
            <a:hlinkClick r:id="rId1" action="ppaction://hlinksldjump"/>
          </p:cNvPr>
          <p:cNvSpPr/>
          <p:nvPr/>
        </p:nvSpPr>
        <p:spPr>
          <a:xfrm>
            <a:off x="8278920" y="6381720"/>
            <a:ext cx="865080" cy="289080"/>
          </a:xfrm>
          <a:custGeom>
            <a:avLst/>
            <a:gdLst>
              <a:gd name="textAreaLeft" fmla="*/ 108000 w 865080"/>
              <a:gd name="textAreaRight" fmla="*/ 757080 w 8650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55640" y="4854600"/>
          <a:ext cx="5904000" cy="1096920"/>
        </p:xfrm>
        <a:graphic>
          <a:graphicData uri="http://schemas.openxmlformats.org/drawingml/2006/table">
            <a:tbl>
              <a:tblPr/>
              <a:tblGrid>
                <a:gridCol w="843120"/>
                <a:gridCol w="842760"/>
                <a:gridCol w="843120"/>
                <a:gridCol w="846000"/>
                <a:gridCol w="843120"/>
                <a:gridCol w="842760"/>
                <a:gridCol w="8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C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M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aa91"/>
                          </a:solidFill>
                          <a:latin typeface="Arial"/>
                        </a:rPr>
                        <a:t>F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52"/>
          <p:cNvSpPr/>
          <p:nvPr/>
        </p:nvSpPr>
        <p:spPr>
          <a:xfrm>
            <a:off x="0" y="6357960"/>
            <a:ext cx="831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недостатки были присущи закону окта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41:35Z</dcterms:created>
  <dc:creator>User</dc:creator>
  <dc:description/>
  <dc:language>en-US</dc:language>
  <cp:lastModifiedBy>Инна Юрьевна</cp:lastModifiedBy>
  <dcterms:modified xsi:type="dcterms:W3CDTF">2019-11-17T17:14:49Z</dcterms:modified>
  <cp:revision>48</cp:revision>
  <dc:subject/>
  <dc:title>Урок - игра</dc:title>
</cp:coreProperties>
</file>